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97548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99036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99036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97548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397548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397548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97548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19960" y="4752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BB50-7F66-447F-96EC-CDDFE55C8BA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POWERBOOK 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tio ad Absurd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nsist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f ~P is a taut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is inconsistent iff P implies (Q &amp; ~Q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formulas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consist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f the conjunction of the formulas is inconsis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implies Q iff {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~Q} is inconsis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0720"/>
            <a:ext cx="8077320" cy="510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 is the negation of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-resolution-pro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Q 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rpri) (princ "PROOF:") (terp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t ((ancestors (union (ancestors Q) (ancestors R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ushnew R ances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ushnew Q ances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f ance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e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'(lambda (x y) (&lt; (conclusion-number x) (conclusion-number y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ist (P ancesto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(conclusion-number P)) (princ ". 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t-disjunction (conclusion-formula 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n (conclusion-parents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" from 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(conclusion-number (first (conclusion-parents P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" and 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(conclusion-number (second (conclusion-parents P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rpri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7543800" y="6248520"/>
            <a:ext cx="1066680" cy="30456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187" y="1400"/>
                </a:lnTo>
                <a:lnTo>
                  <a:pt x="1400" y="140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187" y="20200"/>
                </a:lnTo>
                <a:lnTo>
                  <a:pt x="74187" y="140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87" y="2020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th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1523880"/>
            <a:ext cx="5486400" cy="221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1523520"/>
            <a:ext cx="5486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  Q       (P &amp; Q)     (P v Q)     (P -&gt; Q)    (P &lt;-&gt; Q)     ~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14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: define functions &amp;-val v-val -&gt;-val &lt;-&gt;-val, ~-val that compute the values of (&amp; p q), etc., given the values of p and 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5257800"/>
            <a:ext cx="80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: define func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omic-formul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returns the list of atomic formulas occurring in a form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ng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 formula P is an assignment of truth values (T or nil) to the atomic parts of the formula. More precisely, it is a list of pairs (atom val) where atom is an atomic formula occurring in P, and val is either T or n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function TRUTH-VALUE that takes two arguments -- a formula and an assignment for the formula, and returns the truth value of the formula relative to that assignment.Use the functions &amp;-val, etc. in the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g Consist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ve the consistency of a formula by finding an assignment that makes it true. Define a predicate consistent-p that takes a formula as its sole argument and returns an assignment making it true if there is one, or NIL otherw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ould do this by first constructing the list of all assignments for a formula, but it is much more efficient to construct the assignments one at a time, test each to see whether it makes the formula true, and if not go on to the next one. Try to do it the latte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3581280"/>
            <a:ext cx="7696080" cy="304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(P -&gt; Q), (Q -&gt; R)} implies (P -&gt;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(~P v Q), (~Q v R)} implies (~P v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olu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Q) , (~Q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} implies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duplicates are remov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 that this is equivalent to saying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~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-&gt; Q) , (Q -&gt;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} implies (~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-&gt;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 and Q are lists of literals.  This returns a list of conclu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l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t ((common (subset #'(lambda (x) (mem (neg x) Q)) 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lusions nil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ist (R comm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t ((P- (remove R P :test 'equal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- (remove (neg R) Q :test 'equal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ush (order (union P- Q- :test 'equal) #'lessp) conclusions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 Ref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how that {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implies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~Q to the premises, forming {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...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~Q}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the conjunction of these premises to CN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the conjuncts as separate conclusions, each of which is a disju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ive a contradiction by repeatedly applying resolution until both R and ~R are obtained, for some atomic formula 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comple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an be implemented as a search problem, where the nodes of the state space represent conclusions drawn.  The operation moving from nodes to nodes consists of adding a conclusion by resolution.  Note that this moves from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nodes to a new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use depth-first, breadth-first, or some form of heuristic search.  A good evaluation function for heuristic search gives precedence to shorter formulas.  The evaluation is the length of the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earch can be made more efficient by eliminating as many disjunctions as we can from our list of conclus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particular, we can eliminate “subsumed” disj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subsumes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... v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ff each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Writing disjunctions as lists of literals, this is just the subset rel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..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subsumes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...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ff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...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s a subset of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...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new conclusions are drawn, check to see that they are not subsumed by previous conclusions, and any previous conclusions subsumed by the new conclusions should be removed from *conclusions*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 Ref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066680"/>
            <a:ext cx="7696080" cy="556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will take resolution refutation to search a space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oclaim '(special *conclusions* *conclusion-number*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struct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:print-function print-conclu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:conc-name nil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lusion-number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lusion-formula n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lusion-parents ni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clusion-evaluation 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-concl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onclusion stream dep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clare (ignore depth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t-disjunction (conclusion-formula conclusion) strea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nd-if #'(lambda (x) (equal (conclusion-number x) n)) *conclusions*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-disj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 &amp;optional stre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d ((eq (length P) 1) (princ (pretty (first P)) strea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 (princ "(" stream) (princ (pretty (first P)) stre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ist (x (cdr 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" v " stream) (princ (pretty x) strea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inc ")" stream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 Ref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a funct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-CN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alogous 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-disj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hich prints a list of lists of literals as a conjunction (with arbitrarily many conjuncts) of disjunctions. It can cal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-disjun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 Ref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olution-refu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mises desired-conclusion strateg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 *conclusions* as nil and *conclusion-number* as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-premi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 the result of adding the negation of desired-conclusion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emi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converting the result to CNF (i.e., a list of lists of litera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der newly-constructed conclusions encoding the member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ew-premi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 accordance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empty, report failure to find a proo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the first memb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*conclusions* does not contain a conclusion the subsum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negation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n *conclusions*, report success and st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from *conclusions* all conclusions subsumed b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Q in *conclusions*,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 the set of formulas resulting 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ing Q and the conclusion-formula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For each P i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ol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if P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 tautological disjunction, construct a conclusion encoding P and add it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ccordance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*conclusion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olution-refu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ve-prob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in Search2.lisp) are both search programs, searching a space for a route from the start-state to a goal-state. Describe (in English) the relationship between the two programs.  What are the similarities and what are the differenc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819520"/>
            <a:ext cx="6553080" cy="21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roof is a list of formulas such that each formula is either one of the premises, the negation of the desired-conclusion, or was inferred from formulas earlier in the list by resolu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nclusions used in get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it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es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ces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n (conclusion-parents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ion (conclusion-parents Q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cestors (first (conclusion-parents Q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ncestors (second (conclusion-parents Q)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0:35:59Z</dcterms:created>
  <dc:creator/>
  <dc:description/>
  <dc:language>en-US</dc:language>
  <cp:lastModifiedBy>John Pollock</cp:lastModifiedBy>
  <cp:lastPrinted>1998-02-24T08:20:09Z</cp:lastPrinted>
  <dcterms:modified xsi:type="dcterms:W3CDTF">2004-03-16T00:18:46Z</dcterms:modified>
  <cp:revision>54</cp:revision>
  <dc:subject/>
  <dc:title>The Propositional Calculus</dc:title>
</cp:coreProperties>
</file>