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280" y="3975480"/>
            <a:ext cx="883944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800" y="99036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280" y="397548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1800" y="397548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41000" y="99036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0080" y="99036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280" y="397548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41000" y="397548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0080" y="397548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1800" y="99036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8394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800" y="99036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280" y="397548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99036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1800" y="397548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800" y="99036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280" y="3975480"/>
            <a:ext cx="883944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19960" y="47520"/>
            <a:ext cx="1140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705C-7ED6-4CF9-81B9-36DAAE26789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POWERBOOK2400:Applications:PROGRAMMING:MCL 4.2:MCL 4.2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POWERBOOK2400:Applications:PROGRAMMING:MCL 4.2:MCL 4.2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POWERBOOK2400:Applications:PROGRAMMING:MCL 4.2:MCL 4.2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POWERBOOK2400:Applications:PROGRAMMING:MCL 4.2:MCL 4.2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POWERBOOK2400:Applications:PROGRAMMING:MCL 4.2:MCL 4.2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POWERBOOK2400:Applications:PROGRAMMING:MCL 4.2:MCL 4.2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Theorem Pro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ed theorem provers are AI programs that find proofs for theorems in various domains. This has been one of the more successful parts of A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us far we have discussed searching a search space having the structure of a graph, with the arrows (directed edges) linking nodes representing operations that move us from one state in the space to an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orem proving is naturally regarded as searching a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ypergrap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where arrows connect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ts of nod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the premises of the inference) to individual nodes (the conclusion of the inferenc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976680" y="3328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38440" y="33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43320" y="333864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(P&amp;Q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44800" y="40384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&amp;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3581280"/>
            <a:ext cx="3808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514160" y="3581280"/>
            <a:ext cx="31428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88620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288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4343400"/>
            <a:ext cx="5922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116080" y="3683160"/>
            <a:ext cx="974880" cy="143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483408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31000" y="3495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3120" y="349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98000" y="350532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(P&amp;Q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99480" y="42051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&amp;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97320" y="3747960"/>
            <a:ext cx="381240" cy="5335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568480" y="3747960"/>
            <a:ext cx="314280" cy="5162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25920" y="4052880"/>
            <a:ext cx="25416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37560" y="5272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78560" y="4510080"/>
            <a:ext cx="592200" cy="7621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170400" y="3849840"/>
            <a:ext cx="974520" cy="14302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59440" y="5000760"/>
            <a:ext cx="39852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248520" y="3860280"/>
            <a:ext cx="1015920" cy="147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808600" y="3817800"/>
            <a:ext cx="135000" cy="42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48360" y="3792600"/>
            <a:ext cx="177840" cy="466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29360" y="561492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&amp;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029200" y="5468760"/>
            <a:ext cx="1049400" cy="254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82200" y="584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54760" y="5842080"/>
            <a:ext cx="1023840" cy="185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31160" y="617220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24480" y="50817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324480" y="5342040"/>
            <a:ext cx="973080" cy="56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7340760" y="5366880"/>
            <a:ext cx="9360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7002360" y="5519520"/>
            <a:ext cx="371520" cy="21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500960" y="4470120"/>
            <a:ext cx="82224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7891200" y="6366960"/>
            <a:ext cx="617400" cy="1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37400" y="622476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artial hyper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562720"/>
            <a:ext cx="8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ve Normal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990720"/>
            <a:ext cx="6096240" cy="502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; This assumes conditionals and biconditionals have been elimin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u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ive-negations-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d ((not (listp P)) 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(negationp 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et ((Q (negand P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d ((not (listp Q)) (neg Q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(negationp Q) (drive-negations-in (negand Q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(conjunctionp 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isj (drive-negations-in (neg (conjunct1 Q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rive-negations-in (neg (conjunct2 Q))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(disjunctionp 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j (drive-negations-in (neg (disjunct1 Q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rive-negations-in (neg (disjunct2 Q)))))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(conjunctionp 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j (drive-negations-in (conjunct1 P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rive-negations-in (conjunct2 P)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(disjunctionp 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isj (drive-negations-in (disjunct1 P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rive-negations-in (disjunct2 P)))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5335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ve Normal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839080" cy="601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 This assumes negations and biconditionals have been eliminated, and prints conversion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u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ive-negations-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P &amp;optional ind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hen (eq indent t) (setf indent 0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hen indent (bar-indent indent) (princ P) (terpri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et ((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d ((not (listp P)) 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(negationp 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et ((Q (negand P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d ((not (listp Q)) (neg Q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(negationp Q) (drive-negations-in (negand Q) (if indent (+ 5 indent)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(conjunctionp 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isj (drive-negations-in (neg (conjunct1 Q)) (if indent (+ 5 indent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rive-negations-in (neg (conjunct2 Q)) (if indent (+ 5 indent))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(disjunctionp 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j (drive-negations-in (neg (disjunct1 Q)) (if indent (+ 5 indent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rive-negations-in (neg (disjunct2 Q)) (if indent (+ 5 indent)))))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(conjunctionp 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j (drive-negations-in (conjunct1 P) (if indent (+ 5 indent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rive-negations-in (conjunct2 P) (if indent (+ 5 indent))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(disjunctionp 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isj (drive-negations-in (disjunct1 P) (if indent (+ 5 indent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rive-negations-in (disjunct2 P) (if indent (+ 5 indent)))))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hen indent (bar-indent indent) (princ conversion) (terpri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version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1"/>
          </p:cNvPr>
          <p:cNvSpPr/>
          <p:nvPr/>
        </p:nvSpPr>
        <p:spPr>
          <a:xfrm>
            <a:off x="7467480" y="6019920"/>
            <a:ext cx="1067040" cy="304560"/>
          </a:xfrm>
          <a:custGeom>
            <a:avLst/>
            <a:gdLst>
              <a:gd name="textAreaLeft" fmla="*/ 19440 w 1067040"/>
              <a:gd name="textAreaRight" fmla="*/ 1047600 w 10670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5613" h="21600">
                <a:moveTo>
                  <a:pt x="0" y="0"/>
                </a:moveTo>
                <a:lnTo>
                  <a:pt x="75613" y="0"/>
                </a:lnTo>
                <a:lnTo>
                  <a:pt x="75613" y="21600"/>
                </a:lnTo>
                <a:lnTo>
                  <a:pt x="0" y="21600"/>
                </a:lnTo>
                <a:close/>
              </a:path>
              <a:path fill="lightenLess" w="75613" h="21600">
                <a:moveTo>
                  <a:pt x="0" y="0"/>
                </a:moveTo>
                <a:lnTo>
                  <a:pt x="75613" y="0"/>
                </a:lnTo>
                <a:lnTo>
                  <a:pt x="74213" y="1400"/>
                </a:lnTo>
                <a:lnTo>
                  <a:pt x="1400" y="1400"/>
                </a:lnTo>
                <a:close/>
              </a:path>
              <a:path fill="darken" w="75613" h="21600">
                <a:moveTo>
                  <a:pt x="75613" y="0"/>
                </a:moveTo>
                <a:lnTo>
                  <a:pt x="75613" y="21600"/>
                </a:lnTo>
                <a:lnTo>
                  <a:pt x="74213" y="20200"/>
                </a:lnTo>
                <a:lnTo>
                  <a:pt x="74213" y="1400"/>
                </a:lnTo>
                <a:close/>
              </a:path>
              <a:path fill="darkenLess" w="75613" h="21600">
                <a:moveTo>
                  <a:pt x="75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13" y="20200"/>
                </a:lnTo>
                <a:close/>
              </a:path>
              <a:path fill="lighten" w="75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 to LI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ve Normal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1600200"/>
            <a:ext cx="6172200" cy="3048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5715000"/>
            <a:ext cx="6553440" cy="91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| This converts formulas without conditionals and biconditio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with negations driven-in to lists of lists of literals.|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efu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rt-to-CN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nd ((literal P) (list (list P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(conjunctionp 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union (convert-to-CNF (conjunct1 P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nvert-to-CNF (conjunct2 P)) :test 'equal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(disjunctionp 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p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'(lambda (x) (union (first x) (second x) :test 'equal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rossproduct (convert-to-CNF (disjunct1 P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nvert-to-CNF (disjunct2 P))))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| Note that ((a v b) &amp; (c v d)) v ((e v f) &amp; (g v h)) is equivalen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(a v b) v (e v f)) &amp; ((a v b) v (g v h)) &amp; ((c v d) v (e v f)) &amp; ((c v d) v (g v h)). |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efu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N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nvert-to-cn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rive-negations-in (eliminate-conditionals-and-biconditionals P))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/>
          </p:cNvPr>
          <p:cNvSpPr/>
          <p:nvPr/>
        </p:nvSpPr>
        <p:spPr>
          <a:xfrm>
            <a:off x="7467480" y="6019920"/>
            <a:ext cx="1067040" cy="304560"/>
          </a:xfrm>
          <a:custGeom>
            <a:avLst/>
            <a:gdLst>
              <a:gd name="textAreaLeft" fmla="*/ 19440 w 1067040"/>
              <a:gd name="textAreaRight" fmla="*/ 1047600 w 10670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5613" h="21600">
                <a:moveTo>
                  <a:pt x="0" y="0"/>
                </a:moveTo>
                <a:lnTo>
                  <a:pt x="75613" y="0"/>
                </a:lnTo>
                <a:lnTo>
                  <a:pt x="75613" y="21600"/>
                </a:lnTo>
                <a:lnTo>
                  <a:pt x="0" y="21600"/>
                </a:lnTo>
                <a:close/>
              </a:path>
              <a:path fill="lightenLess" w="75613" h="21600">
                <a:moveTo>
                  <a:pt x="0" y="0"/>
                </a:moveTo>
                <a:lnTo>
                  <a:pt x="75613" y="0"/>
                </a:lnTo>
                <a:lnTo>
                  <a:pt x="74213" y="1400"/>
                </a:lnTo>
                <a:lnTo>
                  <a:pt x="1400" y="1400"/>
                </a:lnTo>
                <a:close/>
              </a:path>
              <a:path fill="darken" w="75613" h="21600">
                <a:moveTo>
                  <a:pt x="75613" y="0"/>
                </a:moveTo>
                <a:lnTo>
                  <a:pt x="75613" y="21600"/>
                </a:lnTo>
                <a:lnTo>
                  <a:pt x="74213" y="20200"/>
                </a:lnTo>
                <a:lnTo>
                  <a:pt x="74213" y="1400"/>
                </a:lnTo>
                <a:close/>
              </a:path>
              <a:path fill="darkenLess" w="75613" h="21600">
                <a:moveTo>
                  <a:pt x="75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13" y="20200"/>
                </a:lnTo>
                <a:close/>
              </a:path>
              <a:path fill="lighten" w="75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 to LI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ve Normal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839440" cy="5943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u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vert-to-CN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P &amp;optional ind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hen (eq indent t) (setf indent 0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hen indent (bar-indent indent) (princ P) (terpri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et ((conver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d ((literal P) (list (list P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(conjunctionp 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nion (convert-to-CNF (conjunct1 P) (if indent (+ 5 indent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vert-to-CNF (conjunct2 P) (if indent (+ 5 indent))) :test 'equal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(disjunctionp 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pc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'(lambda (x) (union (first x) (second x) :test 'equal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rossproduct (convert-to-CNF (disjunct1 P) (if indent (+ 5 indent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vert-to-CNF (disjunct2 P) (if indent (+ 5 indent))))))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hen indent (bar-indent indent) (princ conversion) (terpri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version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u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P &amp;optional ind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move-duplic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pcar #'(lambda (x) (order x #'lessp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vert-to-cn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rive-negations-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liminate-conditionals-and-biconditionals P)) inden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test 'equal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7467480" y="6019920"/>
            <a:ext cx="1067040" cy="304560"/>
          </a:xfrm>
          <a:custGeom>
            <a:avLst/>
            <a:gdLst>
              <a:gd name="textAreaLeft" fmla="*/ 19440 w 1067040"/>
              <a:gd name="textAreaRight" fmla="*/ 1047600 w 10670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5613" h="21600">
                <a:moveTo>
                  <a:pt x="0" y="0"/>
                </a:moveTo>
                <a:lnTo>
                  <a:pt x="75613" y="0"/>
                </a:lnTo>
                <a:lnTo>
                  <a:pt x="75613" y="21600"/>
                </a:lnTo>
                <a:lnTo>
                  <a:pt x="0" y="21600"/>
                </a:lnTo>
                <a:close/>
              </a:path>
              <a:path fill="lightenLess" w="75613" h="21600">
                <a:moveTo>
                  <a:pt x="0" y="0"/>
                </a:moveTo>
                <a:lnTo>
                  <a:pt x="75613" y="0"/>
                </a:lnTo>
                <a:lnTo>
                  <a:pt x="74213" y="1400"/>
                </a:lnTo>
                <a:lnTo>
                  <a:pt x="1400" y="1400"/>
                </a:lnTo>
                <a:close/>
              </a:path>
              <a:path fill="darken" w="75613" h="21600">
                <a:moveTo>
                  <a:pt x="75613" y="0"/>
                </a:moveTo>
                <a:lnTo>
                  <a:pt x="75613" y="21600"/>
                </a:lnTo>
                <a:lnTo>
                  <a:pt x="74213" y="20200"/>
                </a:lnTo>
                <a:lnTo>
                  <a:pt x="74213" y="1400"/>
                </a:lnTo>
                <a:close/>
              </a:path>
              <a:path fill="darkenLess" w="75613" h="21600">
                <a:moveTo>
                  <a:pt x="75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13" y="20200"/>
                </a:lnTo>
                <a:close/>
              </a:path>
              <a:path fill="lighten" w="75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 to LI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ve Normal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523880"/>
            <a:ext cx="5791320" cy="5029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simplify formulas in conjunctive normal form by removing tautological disjunction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u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utological-disj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ome #'(lambda (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nd (not (listp x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ome #'(lambda (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qual y (tilde x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u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move-tautolog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move-if #'tautological-disjunction P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u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P &amp;optional ind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move-duplic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move-taut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pcar #'(lambda (x) (order x #'lessp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vert-to-cn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rive-negations-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liminate-conditionals-and-biconditionals P)) indent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test 'equal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1"/>
          </p:cNvPr>
          <p:cNvSpPr/>
          <p:nvPr/>
        </p:nvSpPr>
        <p:spPr>
          <a:xfrm>
            <a:off x="7467480" y="6019920"/>
            <a:ext cx="1067040" cy="304560"/>
          </a:xfrm>
          <a:custGeom>
            <a:avLst/>
            <a:gdLst>
              <a:gd name="textAreaLeft" fmla="*/ 19440 w 1067040"/>
              <a:gd name="textAreaRight" fmla="*/ 1047600 w 10670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5613" h="21600">
                <a:moveTo>
                  <a:pt x="0" y="0"/>
                </a:moveTo>
                <a:lnTo>
                  <a:pt x="75613" y="0"/>
                </a:lnTo>
                <a:lnTo>
                  <a:pt x="75613" y="21600"/>
                </a:lnTo>
                <a:lnTo>
                  <a:pt x="0" y="21600"/>
                </a:lnTo>
                <a:close/>
              </a:path>
              <a:path fill="lightenLess" w="75613" h="21600">
                <a:moveTo>
                  <a:pt x="0" y="0"/>
                </a:moveTo>
                <a:lnTo>
                  <a:pt x="75613" y="0"/>
                </a:lnTo>
                <a:lnTo>
                  <a:pt x="74213" y="1400"/>
                </a:lnTo>
                <a:lnTo>
                  <a:pt x="1400" y="1400"/>
                </a:lnTo>
                <a:close/>
              </a:path>
              <a:path fill="darken" w="75613" h="21600">
                <a:moveTo>
                  <a:pt x="75613" y="0"/>
                </a:moveTo>
                <a:lnTo>
                  <a:pt x="75613" y="21600"/>
                </a:lnTo>
                <a:lnTo>
                  <a:pt x="74213" y="20200"/>
                </a:lnTo>
                <a:lnTo>
                  <a:pt x="74213" y="1400"/>
                </a:lnTo>
                <a:close/>
              </a:path>
              <a:path fill="darkenLess" w="75613" h="21600">
                <a:moveTo>
                  <a:pt x="75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13" y="20200"/>
                </a:lnTo>
                <a:close/>
              </a:path>
              <a:path fill="lighten" w="75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 to LI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38124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ve Normal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1295280"/>
            <a:ext cx="6096240" cy="44960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simplify further by removing “subsumed” disjunc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disjunction subsumes another if every disjunct of the first is a disjunct of the seco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u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um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x 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ubsetp x y :test 'equal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u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move-subsumed-disjunctio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move-if #'(lambda (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ome #'(lambda (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nd (not (equal x y)) (subsumes y x))) P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u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N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P &amp;optional ind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move-subsumed-disjun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move-duplic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move-taut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pcar #'(lambda (x) (order x #'lessp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vert-to-cn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rive-negations-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liminate-conditionals-and-biconditionals P)) indent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test 'equal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1"/>
          </p:cNvPr>
          <p:cNvSpPr/>
          <p:nvPr/>
        </p:nvSpPr>
        <p:spPr>
          <a:xfrm>
            <a:off x="7467480" y="6019920"/>
            <a:ext cx="1067040" cy="304560"/>
          </a:xfrm>
          <a:custGeom>
            <a:avLst/>
            <a:gdLst>
              <a:gd name="textAreaLeft" fmla="*/ 19440 w 1067040"/>
              <a:gd name="textAreaRight" fmla="*/ 1047600 w 10670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5613" h="21600">
                <a:moveTo>
                  <a:pt x="0" y="0"/>
                </a:moveTo>
                <a:lnTo>
                  <a:pt x="75613" y="0"/>
                </a:lnTo>
                <a:lnTo>
                  <a:pt x="75613" y="21600"/>
                </a:lnTo>
                <a:lnTo>
                  <a:pt x="0" y="21600"/>
                </a:lnTo>
                <a:close/>
              </a:path>
              <a:path fill="lightenLess" w="75613" h="21600">
                <a:moveTo>
                  <a:pt x="0" y="0"/>
                </a:moveTo>
                <a:lnTo>
                  <a:pt x="75613" y="0"/>
                </a:lnTo>
                <a:lnTo>
                  <a:pt x="74213" y="1400"/>
                </a:lnTo>
                <a:lnTo>
                  <a:pt x="1400" y="1400"/>
                </a:lnTo>
                <a:close/>
              </a:path>
              <a:path fill="darken" w="75613" h="21600">
                <a:moveTo>
                  <a:pt x="75613" y="0"/>
                </a:moveTo>
                <a:lnTo>
                  <a:pt x="75613" y="21600"/>
                </a:lnTo>
                <a:lnTo>
                  <a:pt x="74213" y="20200"/>
                </a:lnTo>
                <a:lnTo>
                  <a:pt x="74213" y="1400"/>
                </a:lnTo>
                <a:close/>
              </a:path>
              <a:path fill="darkenLess" w="75613" h="21600">
                <a:moveTo>
                  <a:pt x="75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13" y="20200"/>
                </a:lnTo>
                <a:close/>
              </a:path>
              <a:path fill="lighten" w="75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 to LI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38124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ve Normal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NF (reform "~(p -&gt; (~q -&gt; (p &lt;-&gt; ~((q -&gt; ~~p) &amp; (p -&gt; q)))))"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(p) ((~ q)) (p q) (p (~ p)) (p q (~ q)) (p (~ p) (~ q)) (q (~ p) (~ q)) (p q (~ p)) (q (~ p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(p) ((~ q)) (p q) (q (~ p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(p) ((~ q)) (q (~ p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tty-formulas  (tautologies in red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(p) (~q) (p v q) </a:t>
            </a:r>
            <a:r>
              <a:rPr b="0" lang="en-US" sz="1400" spc="-1" strike="noStrike">
                <a:solidFill>
                  <a:srgbClr val="fc0128"/>
                </a:solidFill>
                <a:latin typeface="Arial"/>
              </a:rPr>
              <a:t>(p v ~p) (p v q v ~q) (p v ~p v ~q) (q v ~p v ~q) (p v q v ~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q v ~p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(p) (~q) (p v q) (q v ~p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(p) (~q) (q v ~p))               </a:t>
            </a:r>
            <a:r>
              <a:rPr b="0" lang="en-US" sz="1400" spc="-1" strike="noStrike">
                <a:solidFill>
                  <a:srgbClr val="fc0128"/>
                </a:solidFill>
                <a:latin typeface="Arial"/>
              </a:rPr>
              <a:t>(p) subsumes (p v 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1"/>
          </p:cNvPr>
          <p:cNvSpPr/>
          <p:nvPr/>
        </p:nvSpPr>
        <p:spPr>
          <a:xfrm>
            <a:off x="7467480" y="6019920"/>
            <a:ext cx="1067040" cy="304560"/>
          </a:xfrm>
          <a:custGeom>
            <a:avLst/>
            <a:gdLst>
              <a:gd name="textAreaLeft" fmla="*/ 19440 w 1067040"/>
              <a:gd name="textAreaRight" fmla="*/ 1047600 w 10670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5613" h="21600">
                <a:moveTo>
                  <a:pt x="0" y="0"/>
                </a:moveTo>
                <a:lnTo>
                  <a:pt x="75613" y="0"/>
                </a:lnTo>
                <a:lnTo>
                  <a:pt x="75613" y="21600"/>
                </a:lnTo>
                <a:lnTo>
                  <a:pt x="0" y="21600"/>
                </a:lnTo>
                <a:close/>
              </a:path>
              <a:path fill="lightenLess" w="75613" h="21600">
                <a:moveTo>
                  <a:pt x="0" y="0"/>
                </a:moveTo>
                <a:lnTo>
                  <a:pt x="75613" y="0"/>
                </a:lnTo>
                <a:lnTo>
                  <a:pt x="74213" y="1400"/>
                </a:lnTo>
                <a:lnTo>
                  <a:pt x="1400" y="1400"/>
                </a:lnTo>
                <a:close/>
              </a:path>
              <a:path fill="darken" w="75613" h="21600">
                <a:moveTo>
                  <a:pt x="75613" y="0"/>
                </a:moveTo>
                <a:lnTo>
                  <a:pt x="75613" y="21600"/>
                </a:lnTo>
                <a:lnTo>
                  <a:pt x="74213" y="20200"/>
                </a:lnTo>
                <a:lnTo>
                  <a:pt x="74213" y="1400"/>
                </a:lnTo>
                <a:close/>
              </a:path>
              <a:path fill="darkenLess" w="75613" h="21600">
                <a:moveTo>
                  <a:pt x="75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213" y="20200"/>
                </a:lnTo>
                <a:close/>
              </a:path>
              <a:path fill="lighten" w="75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 to LI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Theorem Pro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can modify our search algorithms to search hypergraphs. The actions are inferences and planning conditionals tell us what can be inferred from what. How would you have to modif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lve-probl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enable it to search hypergraph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can reconceptualize the problem in ways that yield normal graphs. One way is to regard the nodes of the state space a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ets of conclus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ather than individual conclusions. Applying an inference rule moves us to a larger set of conclusions. Then we can use our existing search algorithms to find proof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other way of reconceptualizing the problem is to think of inferences as actions that “extend proofs”, generating a longer proof from an existing proof. This still requires us to search hypergraphs, because an inference rule may combine two separate proofs into a longer proof. For example, modus ponens might be viewed as constructing a proof of Q from separate proofs of P and (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). We can regard the problem of finding a proof for a theorem as the problem of finding a sequence of operations that takes us from an “empty argument” to an argument whose conclusion is the desired theor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Theorem Pro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ardless of whether we think of theorem proving as a matter of searching the space of conclusions, arguments, or conclusion-sets, we are searching an infinite sp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n infinite search space, we cannot characterize our actions by giving an explicit list of pairs of state spaces (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such that the action takes us from state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state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(This is what planning conditionals amount to.) Instead, we must associate a LISP function with an action. The function, when applied to an initial state, returns the state we will be in as a result of applying the 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example, in searching the space of arguments, an inference rule is associated with a function which, when applied to one or more arguments, returns a longer argument that results from combining the initial arguments and then adding a step onto the end using the inference ru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simple to modify the code fo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lve-probl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make use of this generalized notion of an action. Go back and look at the code and think about how to do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olution Refu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illustrate automated theorem proving, we will look at theorem proving in the propostional calcul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theorem provers in the propositional and predicate calculi employ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olution-refut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s their sole inference rule. Resolution-refutation applies only to formulas in “conjunctive normal form”. So we wil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efly review the propositional calcul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uss conjunctive normal 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uss resolution-refu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positional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amp; (and, conjunction) v (or, disjunction) ~ (not,negation)  -&gt; (if ... then, conditional)  &lt;-&gt; (if and only if, bicondit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th tables and assig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ut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quival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 -&gt; q) eq. (~p v 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 &lt;-&gt; q) eq. ((p -&gt; q) &amp; (q -&gt; p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~p eq.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(p &amp; q) eq. (~p v ~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(p v q) eq. (~p &amp; ~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 v (q &amp; r)) eq. ((p v q) &amp; (p v 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(q &amp; r) v p) eq. ((q v p) &amp; (r v p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 &amp; (q v r)) eq. ((p &amp; q) v (p &amp; 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(q v r) &amp; p) eq. ((q &amp; p) v (r &amp; p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 &amp; p) eq. 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 v (q v r)) eq. ((p v q) v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 v p) eq. 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 &amp; (q &amp; r)) eq. ((p &amp; q) &amp; 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tty Formu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 &amp; q)” for (&amp; p 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 v q)” for (v p 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p” for (~ 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 -&gt; q)” for (-&gt; p 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 &lt;-&gt; q)” for (&lt;-&gt; p 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tty, reform, reform-if-st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These are defined in Syntax.lisp, which requires OSCAR-TOOLS.lis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ve Normal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automated theorem provers are based on “resolution refutation”, which is an inference procedure that only applies to formulas that have been reduced to “conjunctive normal form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tera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— atomic formulas and negations of atomic form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junctive normal for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— conjunction of disjunctions of literals, or disjunction of literals, or lit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ore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Every formula is equivalent to a formula in conjunctive normal 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junctive normal for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— disjunctions of conjunctions of literals, or disjunction of literals, or lit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vert to CN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-conditionals-and-bicondit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ive-negations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bute-disj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mulas in conjunctive normal form can be represented as lists of lists of litera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5335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ve Normal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" y="762120"/>
            <a:ext cx="8703000" cy="530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fu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e-conditionals-and-bicondition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d ((not (listp P)) 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conditionalp 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sj (neg (eliminate-conditionals-and-biconditionals (antecedent P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liminate-conditionals-and-biconditionals (consequent P)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biconditionalp 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sj (neg (eliminate-conditionals-and-biconditionals (bicond1 P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liminate-conditionals-and-biconditionals (bicond2 P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sj (neg (eliminate-conditionals-and-biconditionals (bicond2 P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liminate-conditionals-and-biconditionals (bicond1 P))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negationp P) (neg (eliminate-conditionals-and-biconditionals (negand P)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conjunctionp 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j (eliminate-conditionals-and-biconditionals (conjunct1 P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liminate-conditionals-and-biconditionals (conjunct2 P)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disjunctionp 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isj (eliminate-conditionals-and-biconditionals (disjunct1 P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liminate-conditionals-and-biconditionals (disjunct2 P)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5335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ve Normal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liminate-conditionals-and-biconditio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form "~(p -&gt; (~q -&gt; (p &lt;-&gt; ~ ((q -&gt; ~~p) &amp; (p -&gt; q)))))"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 (v (~ p) (v q (&amp; (v (~ p) (~ (&amp; (v (~ q) p) (v (~ p) q)))) (v (&amp; (v (~ q) p) (v (~ p) q)) p))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hard to read. The pretty formula i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(~p v (q v ((~p v ~((~q v p) &amp; (~p v q))) &amp; (((~q v p) &amp; (~p v q)) v p))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still hard to read. It is somewhat easier if we replace some parentheses by brackets and brac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{~p v [q v ({~p v ~[(~q v p) &amp; (~p v q)]} &amp; {[(~q v p) &amp; (~p v q)] v p})]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can also be useful to draw lines between matching parenthes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{~p v [q v ({~p v ~[(~q v p) &amp; (~p v q)]} &amp; {[(~q v p) &amp; (~p v q)] v p})]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4818240"/>
            <a:ext cx="149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62480" y="4808520"/>
            <a:ext cx="149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11360" y="4902120"/>
            <a:ext cx="187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091880" y="491976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0240" y="4495680"/>
            <a:ext cx="47498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084320" y="477504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141720" y="4782960"/>
            <a:ext cx="0" cy="13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421080" y="476676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291280" y="4774680"/>
            <a:ext cx="0" cy="1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10:35:59Z</dcterms:created>
  <dc:creator/>
  <dc:description/>
  <dc:language>en-US</dc:language>
  <cp:lastModifiedBy>John Pollock</cp:lastModifiedBy>
  <cp:lastPrinted>1998-02-24T08:20:09Z</cp:lastPrinted>
  <dcterms:modified xsi:type="dcterms:W3CDTF">2004-03-08T16:12:40Z</dcterms:modified>
  <cp:revision>50</cp:revision>
  <dc:subject/>
  <dc:title>The Propositional Calculus</dc:title>
</cp:coreProperties>
</file>